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AFB6-9066-4B86-89D0-4A4886F853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B70F-92B7-490F-A2D7-9BD5AE7D5B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F342-B658-4CE0-8302-11648BB2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2420-B434-466C-B7AD-ED3E03A7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9940B-84F3-438E-BE7D-F019103D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06FD5-E008-4B1F-BAB6-E49FEBAD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F5920-ABD5-4F6E-89BB-EEB8D01B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79ABC-CDAC-4E1F-B376-851E7B24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9356E-6EA7-46F9-A639-7E93C0D9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02975-82B3-4181-BF0B-55AA6104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905DA-F77F-40DC-AD42-F1D41202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EC471-C1BF-4AFE-9697-15F199F96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4A875-751F-48C7-B7F3-90D32ACDB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E9D21-D91A-432E-9E87-FBC0AEBF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FB1E-4031-4066-A1E1-96D53A516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1DC06D-DD7B-405A-BFBC-48AD6D8D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00FC4-DE0E-47E7-BA91-AF8848AC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E65EA-9133-48D2-8CEB-310047D5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EF71C-7F30-4CDC-8B95-09F44DB8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23C08-D185-4400-86FB-3C8A0998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9E236-8B34-4C56-846D-08879EEA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C5FE5D-7CE4-4BA0-A7DB-8B458ED0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E7F10-4A48-426F-93CE-E7B27D0C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C2FB1-0917-4C43-AB91-B9E9A43E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4E81B-7499-4013-9CC8-5AB7C80E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FFC2-AC25-495E-84FA-CA3FE936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49580-5374-4B2B-8F78-BF0A7EDE9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C3AA3-C9BD-4260-AB1F-9DA8452FE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07681-23A4-4920-8D7A-271D8F9B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2C01A-D250-4A0D-842B-3C7D1A29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E7E47-E9AC-41A5-A5CF-4391A2F9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74128-DF21-4FBB-9FF9-0977388E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D4AEF-7F2F-4CB3-881E-E55503EF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D25C4-3C6C-423D-8D61-74E6CB95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E2E48-FB3C-4C26-B10E-4B8F011D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989FB-1863-42C7-A7BF-E416C1DB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7586-1A6A-40C6-9215-616D5709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B3E52-9D43-4352-94A1-957F6D9C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E3E09-7A1B-4F4A-8F9E-B6155A66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A6A7B-F343-456B-B6C4-CFA734E9B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6A161-FD2F-4633-9BB3-21F8452B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8D69DD-2394-4333-AAF2-AB970820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BF1E58-D4D7-4853-9189-88452B34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0F66A-197E-4C3A-8AE9-D9867F45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4A3DE6-DAAF-493B-9E35-0A11F9C4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9B3BE-F6BF-4D3C-919B-9E4388AB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682E8-4052-4C8D-B020-4018B456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9DDA-EE00-449E-BBFE-EAC2D540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613E33-289D-44BF-A314-4842E000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677524-7D40-4F03-AEE1-837888A8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561F50-E277-4939-A575-10B78365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274099-A7AD-4EB0-A20D-6C437708A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7CDC9D-B70E-4BA2-A673-31EDE823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9FB9F5-CE96-4614-B205-9D239126F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34C2E1-4E22-4EC2-848B-EAC02F27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43DA90-1D7F-41C0-9D56-A4520F10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C20B02-F93B-4DEB-8BCA-48874D31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3F01C9-6BFC-4C92-AC00-5D37F270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EB91-ECDF-46FA-8BE1-6324212B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5CE558-2103-41B0-8EC3-715A2AC7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F7635F-D43D-46EF-9E3C-E40F6300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D12D76-C414-4E1A-AD9C-E35981E9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0E1052-D226-4BAD-8D95-32CA1DCE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88C61A-4730-41B5-B843-ABAA43B1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79FAF5-ED2C-441D-96A5-24EE68602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601527-C0B8-4022-AE7C-DD1B8B7BD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EC85C4-B64A-431D-9C18-C646917E8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F4BC7C-4D0A-483D-8280-CB61241D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6E0D25-0441-4B88-B154-0A8F8B98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63C7-8045-4DE8-A086-D46F8C43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44536E-2D5D-4A03-8E8F-13A79624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8F17B6-0219-42ED-BA49-84D23160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C59593-53FB-4346-B823-2C8A4BB1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809C6D-15C7-4E65-8414-93346CBD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B8DF8C-ADE0-4F4C-B3DF-AC60B83C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1510D8-6FA9-4B13-BBE5-3DBC986A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B28120-D94B-4CDA-88BD-39BBE39D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C0560B-01A9-4F40-B9C0-A28879ED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C0876C-795E-4339-ADEE-2338D3CB0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5353A3-5DD2-453A-8172-7E96B09F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E026-B1E5-4C74-ACD8-7C7B355C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3F76DB-A7FE-4A3F-B821-9819F06A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B537DD-94BA-43DE-A23A-D14B3D40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5C4B5F-D94D-40ED-B63C-6D65958B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62CB6D-DE55-4D9B-9077-AFCFA2CB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12568D-ED39-4884-8382-9C672073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377725-CEC0-494E-A285-D4F2C71B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594C30-C363-4B7C-95C2-1667A064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EB8217-0BBC-46C9-8120-ED503DE2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B4A2E9-3405-4510-AEFC-7EC3E6F1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B0858C-7051-4072-A3BA-AF49F6E6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04F9-5C77-4413-988A-0CEA72DC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7C962C-B254-449B-894E-3BAEF5685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759A30-73A5-465F-BCC9-EDB875ED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1CADE9-1E2F-41BA-AAE1-C7898F1F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9D3EC2-E712-4F4D-B60A-865CAE9E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633D81-AF26-4635-A441-5485EE27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ACDC6D-8B3C-43FF-B6AF-94A91F02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6553B2-9C0E-4037-A213-691C3748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0942FF-9479-47AA-BA0C-A7A2C420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947B8B-E2E1-4B8E-BDB2-10D23760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EC3668-94F2-4BCA-9E41-0C950139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BEDC-A93D-4F20-A4BE-4E454F73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E541B0-DF38-4F2D-9CEA-E62EA727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50536C-E397-4789-9F47-91A98FBF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A16FD2-CD81-41A1-8B0D-6DA4073D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04FFB1-289E-4F56-8F32-65656F9C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019CE3-6325-48F1-A3E9-B330719E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70D63A-B9E8-4435-AE2B-0B473723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C9C242-B106-406C-8171-AEC53657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462C1F-D535-452A-8A92-7059C3B4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2ADAD1-CF56-469F-9FDF-D9BE2AF9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79E1FF-5536-4502-AF6B-4A7CB3B7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C70B-0996-4237-B0E4-B72410B6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5FF9-1449-4464-B426-8F8F94FD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2D1712-7EF7-4410-81CB-E47AC328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0591A9-B227-4023-B311-3267E81D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956C4F-BBB1-4A33-83FF-A65B0F46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FA5A3D-4FC7-4B87-8BC0-FEAB83B3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5C66C3-45B3-4662-A399-CDFE862F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FCD0-CFB2-44AA-8010-6FF01E63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DD94-8423-4012-93E0-21115C1E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7531-A05C-4B0D-9DF5-974C48D72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4970-3B6B-44F6-831A-555D980E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E0221-2A8B-42B9-AEB6-EABC8D81B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F1207-8DA5-4E63-AECB-17EF1298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F6705-2833-4F73-B6F7-377AEC65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A4159-0F22-43EC-BF25-E266F201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14630-5923-44B8-9716-6B558EE7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446C-8F9A-4E11-9873-01ADABFE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CE239-7A29-42BC-935F-E139BBEE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E3CAE-5853-496E-A694-3105B3A1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CDEE2-FDCD-4F51-9420-F4B248AE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CCD0A-B737-457E-BDC8-9C77995C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74E50-3511-48CC-94E5-3286470E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6CB44-9E5F-4CE2-A38A-FEA49FF8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42803-B535-4790-94E3-FB81B7ED6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3F712-1D37-4016-868C-AAECD354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F65D3-2D85-4CF9-A3D5-C54128E7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8B355-0EC2-4D50-93F3-96B4D1FA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7497-E5BA-4FB2-B98E-D5654F10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74E84-1D16-458F-8745-088D1943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CC2F7-1FCD-4750-BA38-CA8C3295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5620D-1AA3-4DDA-80AD-BE2DB90E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64769-0AF3-4F54-BCD7-86CC1119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9A5D7-CE4E-472F-A2AB-1F55853D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B7580-60C2-4737-98F1-87EF3B99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A45DF-86F3-4684-B4F5-E72FE321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3024B-ADEF-44B7-BEF0-54664AEBA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6A771-4268-47AF-BCAF-4A4135B2E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B2AF6-BF32-4342-B90D-BC46543E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FF81-28EA-4EDE-930E-B2230997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D55C7-9729-486A-A8AF-ACF9443B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AF90A-0568-43DF-823B-62DCFD0F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F1553-AB1B-4625-8842-E8AB0376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FE09B-9090-4686-B3F3-05D9FA80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CCFD5-EE16-4CB2-8F1C-B42E5768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56778-096D-488A-A2CE-1C85F554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830A7-8EAD-4C90-9B5B-E6A98D91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DA395-C547-4D92-8D25-953D6931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2B656-8D16-4CDB-BD7A-7A09CA56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55ED3-E5F3-43CC-BD87-D1BC7CD96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38F2-D578-4278-8EC9-5F1D2A44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5010F-0A4D-48A9-9125-79EF70A81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49C3C-28BF-4684-8F6C-06C37F39D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B8A4F-8ACD-41AC-B261-0F00A6D4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B4FDE-7943-485E-86BD-7384F7BA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83838-36BA-44D6-B090-A04DF144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21393-AAF1-41F7-8B01-FB2895A1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72567-93D6-44CD-B8F1-131B0038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6DC97-7809-445D-9687-10FED2D2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B8CC0-7547-416A-BA4F-E9BBF136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08A53-BB08-4389-8C8F-C2063436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7A33-58CD-4A52-B3C3-5C0D0243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2479E-566C-426A-980E-2AC4A48D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40C5E-CE14-4C3E-A280-B99B6011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77B9B-7786-4747-8263-EA47DD459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482EB-229C-4C68-BB16-AAD459D9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18DC8-3766-4BD5-9FD0-A323B6F7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872E1-DA4A-477B-A77E-9F34EB40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07D41-D29A-4BC4-91E1-6BA35F15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71D51-B451-4A60-B2CD-B72A1AD2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8EC42-EDD5-4DE8-92DB-8928F4AA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05FA9-CBC3-4C68-9332-017D61DC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55DF-395D-45A7-AE7B-4BDE7C5D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20DF1-2FC0-481F-893D-0000E83B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308D8-CB8B-4AF0-9E8D-DD673EA3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54FB3-400F-4085-80D1-C8BC8888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51A50-229B-49C0-8E17-022210C32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2371B-6963-4A3E-AA2E-3A4F73C6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E9D19-9A41-4E51-B9ED-812817E1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52F5F-BA9A-4745-9BFC-88A9BD39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2E0C0-D4EC-482E-A4F3-AA18B71C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EED27-4757-470A-92F6-11012B48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853C0-EA4A-4340-BE3B-C6F72DC4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F960-110F-4C34-999A-3BFDB13B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F9291-BE61-4DEC-B48F-82BD3B4A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6CE9D-D36F-4F27-ACEE-973A5AB5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2A507-410E-44C8-83DE-7D1F27C6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06065-490E-4E41-8D7C-9A478254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1FCAC-E6AF-4269-98E1-A1B1C3A9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E3637-5340-48BF-B951-8EF7BA62C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C1BCB-C950-4B3A-AE03-37B708E5B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EC680-F629-4BB1-81E8-C0961B6E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E8F4D-EDB8-4EF4-833D-CFFC77DA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60DAD-5D95-40E5-B894-B85214A0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1549-66EC-4507-909F-CB132BFE92E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5B33-9B0D-4C8C-8663-344D5131C7A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0E36-48FE-4983-A765-86B3937C7DC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4A59-7B99-4A50-A721-DB3C3CD749E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799C-3936-405F-BAFF-FF978D43BE3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D751-6E06-4DAF-94C8-B0D4195436C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A744-3594-409A-9318-168E81FD3C5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27EE-D76D-4028-8D5F-FCB0DCADD6A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D8D4-7FB8-4D4C-8B6C-41993588C85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683D-53A4-4154-BE97-B9701828D06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3681-9B7B-45C1-951E-6EE0D333378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4955-06B0-4824-95CC-8A25D4150DC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62D8-E592-4563-A495-FD723782B7D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608A-C889-481A-BDC6-190C4916A88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C14A-4FFB-4133-9DC1-F892A11903C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B221-2A6E-4FCE-8D72-8246D9FE23E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CE2A-2744-4440-858B-09B4FA36C5A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Классный час на тему: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250920" y="1557000"/>
            <a:ext cx="7386480" cy="44974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e3eacf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fb4a18"/>
                </a:solidFill>
                <a:latin typeface="comic"/>
              </a:rPr>
              <a:t>«МИЛОСЕРДИЕ-  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fb4a18"/>
                </a:solidFill>
                <a:latin typeface="comic"/>
              </a:rPr>
              <a:t>             </a:t>
            </a:r>
            <a:r>
              <a:rPr b="1" i="1" lang="ru-RU" sz="4800" spc="-1" strike="noStrike">
                <a:solidFill>
                  <a:srgbClr val="fb4a18"/>
                </a:solidFill>
                <a:latin typeface="comic"/>
              </a:rPr>
              <a:t>зеркало души»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5" name="Picture 5" descr="j0284916"/>
          <p:cNvPicPr/>
          <p:nvPr/>
        </p:nvPicPr>
        <p:blipFill>
          <a:blip r:embed="rId1"/>
          <a:stretch/>
        </p:blipFill>
        <p:spPr>
          <a:xfrm>
            <a:off x="2124000" y="3573360"/>
            <a:ext cx="3657600" cy="24195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1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Сострадание -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жалость, сочувствие вызванное чьим-то несчастьем, горем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30" name="Picture 4" descr="0_43ab8_46716e1a_XL"/>
          <p:cNvPicPr/>
          <p:nvPr/>
        </p:nvPicPr>
        <p:blipFill>
          <a:blip r:embed="rId1"/>
          <a:stretch/>
        </p:blipFill>
        <p:spPr>
          <a:xfrm>
            <a:off x="1258920" y="3141720"/>
            <a:ext cx="5033880" cy="3360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Доброта -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тзывчивость, душевное расположение, к людям, стремление делать добро другим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33" name="Picture 5" descr="0_20726_1b2f0716_XL"/>
          <p:cNvPicPr/>
          <p:nvPr/>
        </p:nvPicPr>
        <p:blipFill>
          <a:blip r:embed="rId1"/>
          <a:stretch/>
        </p:blipFill>
        <p:spPr>
          <a:xfrm>
            <a:off x="1763640" y="3346560"/>
            <a:ext cx="4394160" cy="31194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Уважение -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очтительное отношение, основанное на признании чьих нибудь достоинств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36" name="Picture 7" descr="0_209b1_6b5098f2_-1-XL"/>
          <p:cNvPicPr/>
          <p:nvPr/>
        </p:nvPicPr>
        <p:blipFill>
          <a:blip r:embed="rId1"/>
          <a:stretch/>
        </p:blipFill>
        <p:spPr>
          <a:xfrm>
            <a:off x="1403280" y="3357720"/>
            <a:ext cx="4770360" cy="31795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Гуманность -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т латинского слова </a:t>
            </a:r>
            <a:r>
              <a:rPr b="0" i="1" lang="en-US" sz="1800" spc="-1" strike="noStrike">
                <a:solidFill>
                  <a:srgbClr val="404040"/>
                </a:solidFill>
                <a:latin typeface="Century Gothic"/>
              </a:rPr>
              <a:t>humanus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–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человечный. Проявление сочувствия к людям, оказание помощи, не причинение страдани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39" name="Picture 4" descr="0_451c_e53c1bd1_XL"/>
          <p:cNvPicPr/>
          <p:nvPr/>
        </p:nvPicPr>
        <p:blipFill>
          <a:blip r:embed="rId1"/>
          <a:stretch/>
        </p:blipFill>
        <p:spPr>
          <a:xfrm>
            <a:off x="1692360" y="3716280"/>
            <a:ext cx="2016000" cy="2737080"/>
          </a:xfrm>
          <a:prstGeom prst="rect">
            <a:avLst/>
          </a:prstGeom>
          <a:ln w="0">
            <a:noFill/>
          </a:ln>
        </p:spPr>
      </p:pic>
      <p:pic>
        <p:nvPicPr>
          <p:cNvPr id="1240" name="Picture 5" descr="0_35e37_c0bb029a_L"/>
          <p:cNvPicPr/>
          <p:nvPr/>
        </p:nvPicPr>
        <p:blipFill>
          <a:blip r:embed="rId2"/>
          <a:stretch/>
        </p:blipFill>
        <p:spPr>
          <a:xfrm>
            <a:off x="4500720" y="3716280"/>
            <a:ext cx="1942920" cy="2737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Человеколюбие -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любовь к людям, гуманность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43" name="Picture 5" descr="0_4dc47_70517852_XL"/>
          <p:cNvPicPr/>
          <p:nvPr/>
        </p:nvPicPr>
        <p:blipFill>
          <a:blip r:embed="rId1"/>
          <a:stretch/>
        </p:blipFill>
        <p:spPr>
          <a:xfrm>
            <a:off x="2093760" y="2565360"/>
            <a:ext cx="3268800" cy="3789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Альтруизм -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готовность бескорыстно действовать на пользу другим, не считаясь со своими интересами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46" name="Picture 4" descr="0_2f08e_301f056a_XL"/>
          <p:cNvPicPr/>
          <p:nvPr/>
        </p:nvPicPr>
        <p:blipFill>
          <a:blip r:embed="rId1"/>
          <a:stretch/>
        </p:blipFill>
        <p:spPr>
          <a:xfrm>
            <a:off x="900000" y="3500280"/>
            <a:ext cx="2159280" cy="2710080"/>
          </a:xfrm>
          <a:prstGeom prst="rect">
            <a:avLst/>
          </a:prstGeom>
          <a:ln w="0">
            <a:noFill/>
          </a:ln>
        </p:spPr>
      </p:pic>
      <p:pic>
        <p:nvPicPr>
          <p:cNvPr id="1247" name="Picture 5" descr="nani5c5v"/>
          <p:cNvPicPr/>
          <p:nvPr/>
        </p:nvPicPr>
        <p:blipFill>
          <a:blip r:embed="rId2"/>
          <a:stretch/>
        </p:blipFill>
        <p:spPr>
          <a:xfrm>
            <a:off x="3419640" y="3548160"/>
            <a:ext cx="4028760" cy="2681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6" name="Picture 2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6457680" cy="5835600"/>
          </a:xfrm>
          <a:prstGeom prst="rect">
            <a:avLst/>
          </a:prstGeom>
          <a:ln w="0">
            <a:noFill/>
          </a:ln>
        </p:spPr>
      </p:pic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01520" y="333000"/>
            <a:ext cx="7477200" cy="127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fb4a18"/>
                </a:solidFill>
                <a:latin typeface="Century Gothic"/>
              </a:rPr>
              <a:t>ТВОРИ ДОБРО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8" name="в) Твори добро с NeverGiveUp ! 1111.mp4" descr=""/>
          <p:cNvPicPr/>
          <p:nvPr/>
        </p:nvPicPr>
        <p:blipFill>
          <a:blip r:embed="rId2"/>
          <a:stretch/>
        </p:blipFill>
        <p:spPr>
          <a:xfrm>
            <a:off x="981000" y="1554120"/>
            <a:ext cx="5718240" cy="4292640"/>
          </a:xfrm>
          <a:prstGeom prst="rect">
            <a:avLst/>
          </a:prstGeom>
          <a:ln w="0">
            <a:noFill/>
          </a:ln>
        </p:spPr>
      </p:pic>
      <p:pic>
        <p:nvPicPr>
          <p:cNvPr id="1189" name="в) Твори добро с NeverGiveUp ! 1111.mp4" descr=""/>
          <p:cNvPicPr/>
          <p:nvPr/>
        </p:nvPicPr>
        <p:blipFill>
          <a:blip r:embed="rId3"/>
          <a:stretch/>
        </p:blipFill>
        <p:spPr>
          <a:xfrm>
            <a:off x="611280" y="857160"/>
            <a:ext cx="8137440" cy="5667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" dur="1" fill="hold"/>
                                        <p:tgtEl>
                                          <p:spTgt spid="1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189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1189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Подготовительный этап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0" y="1483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Не одежда красит человека, а его добрые дел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Торопись на доброе дело, а худое само приспеет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Злой плачет от зависти, а добрый - от радости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Добрые слова дороже богатств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Кто добро творит, тому Бог платит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2" name="01.mp3" descr=""/>
          <p:cNvPicPr/>
          <p:nvPr/>
        </p:nvPicPr>
        <p:blipFill>
          <a:blip r:embed="rId1"/>
          <a:stretch/>
        </p:blipFill>
        <p:spPr>
          <a:xfrm>
            <a:off x="6588000" y="7389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192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1192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71366" fill="hold"/>
                                        <p:tgtEl>
                                          <p:spTgt spid="1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b4a18"/>
                </a:solidFill>
                <a:latin typeface="comic"/>
              </a:rPr>
              <a:t>МИЛОСЕРДИЕ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324000" y="2707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–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это готовность помочь кому-нибудь, простить кого-нибудь, человеколюбие»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(Сергей Ожегов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6" name="Rectangle 5"/>
          <p:cNvSpPr/>
          <p:nvPr/>
        </p:nvSpPr>
        <p:spPr>
          <a:xfrm>
            <a:off x="2340000" y="333360"/>
            <a:ext cx="3168720" cy="86364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b4a18"/>
                </a:solidFill>
                <a:latin typeface="Arial"/>
              </a:rPr>
              <a:t>МИЛОСЕРД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37"/>
          <p:cNvSpPr/>
          <p:nvPr/>
        </p:nvSpPr>
        <p:spPr>
          <a:xfrm>
            <a:off x="5076720" y="1773360"/>
            <a:ext cx="2448000" cy="79200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b4a18"/>
                </a:solidFill>
                <a:uFillTx/>
                <a:latin typeface="Arial"/>
                <a:hlinkClick r:id="rId1" action="ppaction://hlinksldjump"/>
              </a:rPr>
              <a:t>Альтруиз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38"/>
          <p:cNvSpPr/>
          <p:nvPr/>
        </p:nvSpPr>
        <p:spPr>
          <a:xfrm>
            <a:off x="4643280" y="3213000"/>
            <a:ext cx="2664000" cy="86364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b4a18"/>
                </a:solidFill>
                <a:uFillTx/>
                <a:latin typeface="Arial"/>
                <a:hlinkClick r:id="rId2" action="ppaction://hlinksldjump"/>
              </a:rPr>
              <a:t>Человеколюб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39">
            <a:hlinkClick r:id="rId3" action="ppaction://hlinksldjump"/>
          </p:cNvPr>
          <p:cNvSpPr/>
          <p:nvPr/>
        </p:nvSpPr>
        <p:spPr>
          <a:xfrm>
            <a:off x="250920" y="1773360"/>
            <a:ext cx="2520720" cy="86364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b4a18"/>
                </a:solidFill>
                <a:uFillTx/>
                <a:latin typeface="Arial"/>
                <a:hlinkClick r:id="rId4" action="ppaction://hlinksldjump"/>
              </a:rPr>
              <a:t>Сострадание</a:t>
            </a:r>
            <a:r>
              <a:rPr b="0" lang="ru-RU" sz="2400" spc="-1" strike="noStrike" u="sng">
                <a:solidFill>
                  <a:srgbClr val="fb4a18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Rectangle 40"/>
          <p:cNvSpPr/>
          <p:nvPr/>
        </p:nvSpPr>
        <p:spPr>
          <a:xfrm>
            <a:off x="468360" y="3284640"/>
            <a:ext cx="2521080" cy="86364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b4a18"/>
                </a:solidFill>
                <a:uFillTx/>
                <a:latin typeface="Arial"/>
              </a:rPr>
              <a:t>Доброта</a:t>
            </a:r>
            <a:r>
              <a:rPr b="0" lang="ru-RU" sz="2400" spc="-1" strike="noStrike" u="sng">
                <a:solidFill>
                  <a:srgbClr val="766f54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Rectangle 41"/>
          <p:cNvSpPr/>
          <p:nvPr/>
        </p:nvSpPr>
        <p:spPr>
          <a:xfrm>
            <a:off x="971640" y="4941720"/>
            <a:ext cx="2448000" cy="79236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66f54"/>
                </a:solidFill>
                <a:uFillTx/>
                <a:latin typeface="Arial"/>
              </a:rPr>
              <a:t>Уважени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Rectangle 48"/>
          <p:cNvSpPr/>
          <p:nvPr/>
        </p:nvSpPr>
        <p:spPr>
          <a:xfrm>
            <a:off x="4211640" y="4941720"/>
            <a:ext cx="2664000" cy="79236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b4a18"/>
                </a:solidFill>
                <a:latin typeface="Arial"/>
              </a:rPr>
              <a:t>Гуман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52"/>
          <p:cNvSpPr/>
          <p:nvPr/>
        </p:nvSpPr>
        <p:spPr>
          <a:xfrm>
            <a:off x="3924360" y="141300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53"/>
          <p:cNvSpPr/>
          <p:nvPr/>
        </p:nvSpPr>
        <p:spPr>
          <a:xfrm flipH="1">
            <a:off x="2842920" y="1341360"/>
            <a:ext cx="1081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54"/>
          <p:cNvSpPr/>
          <p:nvPr/>
        </p:nvSpPr>
        <p:spPr>
          <a:xfrm flipH="1">
            <a:off x="2555640" y="1413000"/>
            <a:ext cx="136836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55"/>
          <p:cNvSpPr/>
          <p:nvPr/>
        </p:nvSpPr>
        <p:spPr>
          <a:xfrm>
            <a:off x="3924360" y="1484280"/>
            <a:ext cx="122400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56"/>
          <p:cNvSpPr/>
          <p:nvPr/>
        </p:nvSpPr>
        <p:spPr>
          <a:xfrm flipH="1">
            <a:off x="2916000" y="1413000"/>
            <a:ext cx="934920" cy="33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58"/>
          <p:cNvSpPr/>
          <p:nvPr/>
        </p:nvSpPr>
        <p:spPr>
          <a:xfrm>
            <a:off x="3851280" y="1341360"/>
            <a:ext cx="792000" cy="338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Oval 59"/>
          <p:cNvSpPr/>
          <p:nvPr/>
        </p:nvSpPr>
        <p:spPr>
          <a:xfrm>
            <a:off x="3564000" y="1197000"/>
            <a:ext cx="647640" cy="503280"/>
          </a:xfrm>
          <a:prstGeom prst="ellipse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Карточка № 1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ы все природой пробуждаемся к милосердию, и нет в нашей природе другого столь доброго свойства. </a:t>
            </a:r>
            <a:r>
              <a:rPr b="0" lang="ru-RU" sz="1800" spc="-1" strike="noStrike">
                <a:solidFill>
                  <a:srgbClr val="fb4a18"/>
                </a:solidFill>
                <a:latin typeface="Century Gothic"/>
              </a:rPr>
              <a:t>Милосердие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происходит от любви. Если мы не имеем милосердия и сострадания, мы не имеем ничего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     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(святитель Иоанн Златоуст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randomBar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68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68" fill="hold"/>
                                        <p:tgtEl>
                                          <p:spTgt spid="12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68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68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498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Карточка № 2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b4a18"/>
                </a:solidFill>
                <a:latin typeface="Century Gothic"/>
              </a:rPr>
              <a:t>    </a:t>
            </a:r>
            <a:r>
              <a:rPr b="0" lang="ru-RU" sz="1800" spc="-1" strike="noStrike">
                <a:solidFill>
                  <a:srgbClr val="fb4a18"/>
                </a:solidFill>
                <a:latin typeface="Century Gothic"/>
              </a:rPr>
              <a:t>Милосердие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есть пристань для нуждающихся, а пристань принимает всех потерпевших кораблекрушение и спасает от опасностей, злые они или добры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                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(митрополит Филарет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randomBar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68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68" fill="hold"/>
                                        <p:tgtEl>
                                          <p:spTgt spid="1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6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6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498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Карточка № 3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0" lang="ru-RU" sz="1800" spc="-1" strike="noStrike">
                <a:solidFill>
                  <a:srgbClr val="fb4a18"/>
                </a:solidFill>
                <a:latin typeface="Century Gothic"/>
              </a:rPr>
              <a:t>Милосердие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– это любовь, которая взаимности не требует, возможна ко всем людям, в этом ее богатство и сил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                                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(Н. Бердяев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randomBar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768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" dur="768" fill="hold"/>
                                        <p:tgtEl>
                                          <p:spTgt spid="12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4" dur="768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" dur="768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498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2" fill="hold"/>
                                        <p:tgtEl>
                                          <p:spTgt spid="1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2" fill="hold"/>
                                        <p:tgtEl>
                                          <p:spTgt spid="1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302"/>
                                        <p:tgtEl>
                                          <p:spTgt spid="1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6" name=""/>
          <p:cNvGraphicFramePr/>
          <p:nvPr/>
        </p:nvGraphicFramePr>
        <p:xfrm>
          <a:off x="900000" y="907920"/>
          <a:ext cx="6096240" cy="3703680"/>
        </p:xfrm>
        <a:graphic>
          <a:graphicData uri="http://schemas.openxmlformats.org/drawingml/2006/table">
            <a:tbl>
              <a:tblPr/>
              <a:tblGrid>
                <a:gridCol w="468360"/>
                <a:gridCol w="469800"/>
                <a:gridCol w="468360"/>
                <a:gridCol w="470160"/>
                <a:gridCol w="468000"/>
                <a:gridCol w="468360"/>
                <a:gridCol w="427320"/>
                <a:gridCol w="510840"/>
                <a:gridCol w="468360"/>
                <a:gridCol w="470160"/>
                <a:gridCol w="468360"/>
                <a:gridCol w="469800"/>
                <a:gridCol w="4683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7" name=""/>
          <p:cNvGraphicFramePr/>
          <p:nvPr/>
        </p:nvGraphicFramePr>
        <p:xfrm>
          <a:off x="2771640" y="907920"/>
          <a:ext cx="2345040" cy="371520"/>
        </p:xfrm>
        <a:graphic>
          <a:graphicData uri="http://schemas.openxmlformats.org/drawingml/2006/table">
            <a:tbl>
              <a:tblPr/>
              <a:tblGrid>
                <a:gridCol w="468360"/>
                <a:gridCol w="470160"/>
                <a:gridCol w="426960"/>
                <a:gridCol w="511200"/>
                <a:gridCol w="46836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8" name=""/>
          <p:cNvGraphicFramePr/>
          <p:nvPr/>
        </p:nvGraphicFramePr>
        <p:xfrm>
          <a:off x="3276720" y="1268280"/>
          <a:ext cx="2342880" cy="366840"/>
        </p:xfrm>
        <a:graphic>
          <a:graphicData uri="http://schemas.openxmlformats.org/drawingml/2006/table">
            <a:tbl>
              <a:tblPr/>
              <a:tblGrid>
                <a:gridCol w="468360"/>
                <a:gridCol w="426960"/>
                <a:gridCol w="511200"/>
                <a:gridCol w="468360"/>
                <a:gridCol w="46800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9" name=""/>
          <p:cNvGraphicFramePr/>
          <p:nvPr/>
        </p:nvGraphicFramePr>
        <p:xfrm>
          <a:off x="3747960" y="1628640"/>
          <a:ext cx="2813040" cy="371520"/>
        </p:xfrm>
        <a:graphic>
          <a:graphicData uri="http://schemas.openxmlformats.org/drawingml/2006/table">
            <a:tbl>
              <a:tblPr/>
              <a:tblGrid>
                <a:gridCol w="427320"/>
                <a:gridCol w="511200"/>
                <a:gridCol w="468000"/>
                <a:gridCol w="468360"/>
                <a:gridCol w="470160"/>
                <a:gridCol w="4680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0" name=""/>
          <p:cNvGraphicFramePr/>
          <p:nvPr/>
        </p:nvGraphicFramePr>
        <p:xfrm>
          <a:off x="2341440" y="1989000"/>
          <a:ext cx="2813040" cy="370080"/>
        </p:xfrm>
        <a:graphic>
          <a:graphicData uri="http://schemas.openxmlformats.org/drawingml/2006/table">
            <a:tbl>
              <a:tblPr/>
              <a:tblGrid>
                <a:gridCol w="468360"/>
                <a:gridCol w="469800"/>
                <a:gridCol w="468360"/>
                <a:gridCol w="427320"/>
                <a:gridCol w="511200"/>
                <a:gridCol w="468000"/>
              </a:tblGrid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1" name=""/>
          <p:cNvGraphicFramePr/>
          <p:nvPr/>
        </p:nvGraphicFramePr>
        <p:xfrm>
          <a:off x="3747960" y="2421000"/>
          <a:ext cx="3281400" cy="371520"/>
        </p:xfrm>
        <a:graphic>
          <a:graphicData uri="http://schemas.openxmlformats.org/drawingml/2006/table">
            <a:tbl>
              <a:tblPr/>
              <a:tblGrid>
                <a:gridCol w="427320"/>
                <a:gridCol w="511200"/>
                <a:gridCol w="468000"/>
                <a:gridCol w="468360"/>
                <a:gridCol w="468360"/>
                <a:gridCol w="469800"/>
                <a:gridCol w="46836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2" name=""/>
          <p:cNvGraphicFramePr/>
          <p:nvPr/>
        </p:nvGraphicFramePr>
        <p:xfrm>
          <a:off x="1835280" y="2781360"/>
          <a:ext cx="3751200" cy="369720"/>
        </p:xfrm>
        <a:graphic>
          <a:graphicData uri="http://schemas.openxmlformats.org/drawingml/2006/table">
            <a:tbl>
              <a:tblPr/>
              <a:tblGrid>
                <a:gridCol w="468360"/>
                <a:gridCol w="469800"/>
                <a:gridCol w="468360"/>
                <a:gridCol w="469800"/>
                <a:gridCol w="425520"/>
                <a:gridCol w="511200"/>
                <a:gridCol w="469800"/>
                <a:gridCol w="46836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3" name=""/>
          <p:cNvGraphicFramePr/>
          <p:nvPr/>
        </p:nvGraphicFramePr>
        <p:xfrm>
          <a:off x="1827360" y="3141720"/>
          <a:ext cx="5157720" cy="369720"/>
        </p:xfrm>
        <a:graphic>
          <a:graphicData uri="http://schemas.openxmlformats.org/drawingml/2006/table">
            <a:tbl>
              <a:tblPr/>
              <a:tblGrid>
                <a:gridCol w="468000"/>
                <a:gridCol w="470160"/>
                <a:gridCol w="468360"/>
                <a:gridCol w="468000"/>
                <a:gridCol w="427320"/>
                <a:gridCol w="511200"/>
                <a:gridCol w="469800"/>
                <a:gridCol w="468360"/>
                <a:gridCol w="468360"/>
                <a:gridCol w="469800"/>
                <a:gridCol w="46836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4" name=""/>
          <p:cNvGraphicFramePr/>
          <p:nvPr/>
        </p:nvGraphicFramePr>
        <p:xfrm>
          <a:off x="3722760" y="3500280"/>
          <a:ext cx="3282840" cy="371520"/>
        </p:xfrm>
        <a:graphic>
          <a:graphicData uri="http://schemas.openxmlformats.org/drawingml/2006/table">
            <a:tbl>
              <a:tblPr/>
              <a:tblGrid>
                <a:gridCol w="426960"/>
                <a:gridCol w="511200"/>
                <a:gridCol w="468360"/>
                <a:gridCol w="469800"/>
                <a:gridCol w="468360"/>
                <a:gridCol w="469800"/>
                <a:gridCol w="46836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5" name=""/>
          <p:cNvGraphicFramePr/>
          <p:nvPr/>
        </p:nvGraphicFramePr>
        <p:xfrm>
          <a:off x="1332000" y="3860640"/>
          <a:ext cx="3282840" cy="371520"/>
        </p:xfrm>
        <a:graphic>
          <a:graphicData uri="http://schemas.openxmlformats.org/drawingml/2006/table">
            <a:tbl>
              <a:tblPr/>
              <a:tblGrid>
                <a:gridCol w="468360"/>
                <a:gridCol w="469800"/>
                <a:gridCol w="468360"/>
                <a:gridCol w="469800"/>
                <a:gridCol w="468360"/>
                <a:gridCol w="426960"/>
                <a:gridCol w="5112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6" name=""/>
          <p:cNvGraphicFramePr/>
          <p:nvPr/>
        </p:nvGraphicFramePr>
        <p:xfrm>
          <a:off x="3203640" y="4221000"/>
          <a:ext cx="2813040" cy="371520"/>
        </p:xfrm>
        <a:graphic>
          <a:graphicData uri="http://schemas.openxmlformats.org/drawingml/2006/table">
            <a:tbl>
              <a:tblPr/>
              <a:tblGrid>
                <a:gridCol w="468360"/>
                <a:gridCol w="426960"/>
                <a:gridCol w="511200"/>
                <a:gridCol w="468360"/>
                <a:gridCol w="469800"/>
                <a:gridCol w="46836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7" name=""/>
          <p:cNvGraphicFramePr/>
          <p:nvPr/>
        </p:nvGraphicFramePr>
        <p:xfrm>
          <a:off x="9828360" y="981000"/>
          <a:ext cx="426960" cy="3703680"/>
        </p:xfrm>
        <a:graphic>
          <a:graphicData uri="http://schemas.openxmlformats.org/drawingml/2006/table">
            <a:tbl>
              <a:tblPr/>
              <a:tblGrid>
                <a:gridCol w="42696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Bar dir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2T17:05:13Z</dcterms:created>
  <dc:creator>Admin</dc:creator>
  <dc:description/>
  <dc:language>en-US</dc:language>
  <cp:lastModifiedBy>Пользователь Windows</cp:lastModifiedBy>
  <dcterms:modified xsi:type="dcterms:W3CDTF">2022-03-09T06:06:40Z</dcterms:modified>
  <cp:revision>99</cp:revision>
  <dc:subject/>
  <dc:title>МОУ СОШ № 2 г Домодедово</dc:title>
</cp:coreProperties>
</file>